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8553"/>
        <c:axId val="91529147"/>
      </c:barChart>
      <c:catAx>
        <c:axId val="1538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29147"/>
        <c:crosses val="autoZero"/>
        <c:auto val="1"/>
        <c:lblAlgn val="ctr"/>
        <c:lblOffset val="100"/>
        <c:noMultiLvlLbl val="0"/>
      </c:catAx>
      <c:valAx>
        <c:axId val="91529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8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931-5DD8-4BF4-BE24-0C738B39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5EA-1DC7-4985-B6D9-D1C41CB5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870-647A-4AC5-83BC-5D594172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19D-8046-4924-9476-22303879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F05-0D65-47B0-818B-0503B30C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B9D-B3CD-4910-A48A-B114828C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4AA-6495-4B86-B340-4FD9B285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BD5-470E-4A59-BE2F-A65D9A2D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526-B16B-45A9-A014-D1405EF3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BFF-BE8E-49AE-BA30-28D20484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C41-1FB6-421D-A94E-4AD35596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9BF-6012-4E45-A8D3-3232C6B5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20F30-6CD3-40A0-ACE7-68870E6736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