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33191"/>
        <c:axId val="5725672"/>
      </c:barChart>
      <c:catAx>
        <c:axId val="49633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672"/>
        <c:crosses val="autoZero"/>
        <c:auto val="1"/>
        <c:lblAlgn val="ctr"/>
        <c:lblOffset val="100"/>
        <c:noMultiLvlLbl val="0"/>
      </c:catAx>
      <c:valAx>
        <c:axId val="5725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33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009-3635-48BD-956B-64D96D34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35F-B454-445E-A432-15331090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E10-2370-4F29-A21C-AB139421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A21-DE3F-4F2D-9E8B-7C0D1275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AB2-BCD0-4E70-AE4E-D83EF85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48F-802E-49F2-AC84-F5FAB091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EC6-1D6E-4F78-AD2E-056369C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344-CA15-4A3E-BE16-CD188671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4AD-51DE-4203-B8C1-9EAB928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D44-CE23-43ED-A9E2-E2FBF10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E24-ED5F-41A9-AA6A-F364C4A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1F1-F641-42CF-BA6F-11E9277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345B4-E812-46DB-A5D3-D10CCC736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