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12027"/>
        <c:axId val="62976578"/>
      </c:barChart>
      <c:catAx>
        <c:axId val="76212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76578"/>
        <c:crosses val="autoZero"/>
        <c:auto val="1"/>
        <c:lblAlgn val="ctr"/>
        <c:lblOffset val="100"/>
        <c:noMultiLvlLbl val="0"/>
      </c:catAx>
      <c:valAx>
        <c:axId val="62976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12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B88-1A8F-47AC-9ABF-9DD009B7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99A-4688-4F27-ADB2-B0D1006E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9CC-133E-4116-9E94-BF942D5C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50E-CA39-41B1-8616-FA11D2D3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F20-4D35-4345-878E-A70B3E48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98F-ECA9-4E44-B706-28D91EB7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FF3-7675-4DB8-9446-8D1C32E9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814-C861-4221-B6DD-91B39DD0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1DC-57F0-46BD-9837-0FDB35D2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35D-D63B-4054-AF58-436DC475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406-D341-44B3-A864-EB9F31F1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9DE-082D-4613-9CEF-3C54C68B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667C6-5F06-4FAD-9D4E-7D632C7C83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